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7A2-5F84-4A34-91B7-BCB7E23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958-A740-4EE8-87D2-DC55FF2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890-B609-4698-814E-E40BC44C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2E3-9B96-44EB-BBE8-93661416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EDD-9F74-4D9A-83B6-A1BEEEC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607-36C6-4E36-A2A4-F8018871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3B7-A112-4E0A-88AC-BE66772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A81-0B23-41EF-8E2E-93E274B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128-7445-4929-8FF2-7225779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A0B-695E-4B14-B589-D327538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E86-F179-4044-9B6F-841D3C8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C82-BCC7-4069-A85A-DC50C15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B824-A4B5-4192-BE4A-96257FE8E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  <a:ea typeface="Tahoma"/>
              </a:rPr>
              <a:t>Definition of Curriculum Mapp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Raavi"/>
              </a:rPr>
              <a:t>Calendar-based curriculum mapping is a </a:t>
            </a:r>
            <a:r>
              <a:rPr b="0" lang="en-US" sz="3200" spc="-1" strike="noStrike">
                <a:solidFill>
                  <a:srgbClr val="00b050"/>
                </a:solidFill>
                <a:latin typeface="Trebuchet MS"/>
                <a:ea typeface="Raavi"/>
              </a:rPr>
              <a:t>procedure for collecting and maintaining an operational data base of the curriculum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Raavi"/>
              </a:rPr>
              <a:t>in a school or district.  Curriculum mapping provides the </a:t>
            </a:r>
            <a:r>
              <a:rPr b="0" lang="en-US" sz="3200" spc="-1" strike="noStrike">
                <a:solidFill>
                  <a:srgbClr val="3333ff"/>
                </a:solidFill>
                <a:latin typeface="Trebuchet MS"/>
                <a:ea typeface="Raavi"/>
              </a:rPr>
              <a:t>basis for authentic exa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rebuchet MS"/>
                <a:ea typeface="Raavi"/>
              </a:rPr>
              <a:t>Module 1, Figure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3:16:04Z</dcterms:created>
  <dc:creator>Ann Johnson</dc:creator>
  <dc:description/>
  <dc:language>en-US</dc:language>
  <cp:lastModifiedBy>llakins</cp:lastModifiedBy>
  <dcterms:modified xsi:type="dcterms:W3CDTF">2009-08-11T19:51:58Z</dcterms:modified>
  <cp:revision>8</cp:revision>
  <dc:subject/>
  <dc:title>Curriculum Mapping</dc:title>
</cp:coreProperties>
</file>